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2C40-2EC4-49EB-932C-8067112B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441-8E02-4B3F-940A-F10C985D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AA97-4C68-4819-9EE1-1DD2308F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2ED1-B2E3-450E-82D4-7C711D6F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4036-2008-485D-B23E-4A8403CD9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40C2-9AE9-41AE-842B-8EE0B7B9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F16E-CCED-4892-B5C2-CC063FC0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B3FE-60D2-413F-9676-AD936170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3822-2EFC-41B2-8252-7901AF54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4D44-7171-4740-AE80-0608F77D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1E3E-E91F-4961-921A-E7C4C91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E398-93B3-4443-BD85-92B66C82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FEFD-E76F-452C-B677-55B85968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2391-F126-4192-92D1-4CC5FD91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BCB1-05D0-490E-AA7D-298051DE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8DDF-8D7F-4BB7-AA93-B690DA46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30C7-003C-4A11-BA17-F1C5AB54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D882-8ECA-4AE2-920C-45F3FB3C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102-DF9D-4304-856E-A2C5375C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BE78-45D4-487D-9A9A-E9871BE4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7DFF-7DB9-4213-88B1-2E0F4D704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21A-C5E8-4E7B-AE93-ECD751F4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D0F-2D37-49E2-B3B3-E11F6EFC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201-3CB0-4369-999D-6F02E4AC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A8D0-D140-4B1D-AF5C-6CDD94CA6B4D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4058-CC1C-4253-A407-DD51654DBB55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Ri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What type of government does Puerto Rico have? 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 Govern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When was Puerto Rico discover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er 19, 14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When was Emancipation Slavery abolished from slavery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h 22, 18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What is one ingredient in the main dish of Puerto Ric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12520" y="2209320"/>
            <a:ext cx="7692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ve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en pe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ushed gar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riz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 bro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 p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 pep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What is one ingredient in the soup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6280" y="2209320"/>
            <a:ext cx="7692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ve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mato sau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mp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538280"/>
                <a:gridCol w="1538280"/>
                <a:gridCol w="1540080"/>
                <a:gridCol w="1538280"/>
                <a:gridCol w="153828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1.  What is the country that the PowerPoint and the poster was abou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Puerto Ric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What is the name of our teacher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ora Ceru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What is one of the branches of the governmen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l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4. What is one of the Holidays that is celebrated in Puerto Rico And United States?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’s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hington’s Birth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ial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ce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umbus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erans D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nksgiving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or D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What is one famous person in Puerto Ric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rto Cle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c Antho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nnifer Lope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ymond Ay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ctor Elizon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How many people live in Puerto Ric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916,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What country is Puerto Rico unincorporated with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Sonam</cp:lastModifiedBy>
  <dcterms:modified xsi:type="dcterms:W3CDTF">2010-10-13T00:46:23Z</dcterms:modified>
  <cp:revision>7</cp:revision>
  <dc:subject/>
  <dc:title>Twenty Questions</dc:title>
</cp:coreProperties>
</file>